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9.png" ContentType="image/png"/>
  <Override PartName="/ppt/media/projctor.wav" ContentType="audio/x-wav"/>
  <Override PartName="/ppt/media/image8.png" ContentType="image/png"/>
  <Override PartName="/ppt/media/chimes.wav" ContentType="audio/x-wav"/>
  <Override PartName="/ppt/media/image16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gif" ContentType="image/gif"/>
  <Override PartName="/ppt/media/image18.png" ContentType="image/png"/>
  <Override PartName="/ppt/media/image14.gif" ContentType="image/gif"/>
  <Override PartName="/ppt/media/image17.png" ContentType="image/png"/>
  <Override PartName="/ppt/media/image13.png" ContentType="image/png"/>
  <Override PartName="/ppt/media/image20.jpeg" ContentType="image/jpeg"/>
  <Override PartName="/ppt/media/image12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4DCE-25AD-4000-B47A-2CD2DAE5C88F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8EA0-E8E6-485B-96A4-063DCA883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5713-3A73-4DFE-85D4-FA3CCB3C297A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E422-D3F2-4AD2-9AB7-96F846EDC746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6554-1895-4E6A-9F30-DE799A35CA44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980B-3DAE-4FE1-897D-C2528FD1DA7F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8DA9-467F-4DB0-BB3A-DD9FB8E49FDE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D31E-AA58-4CF8-840F-0166CF3401A6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417E3-2F41-4892-95B5-5559298995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41602-1B70-43FB-AE14-F91C7E2E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C1F71-153C-493E-9C4D-3C710269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AD123-A21D-4895-9B5B-FF0A945F5D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2A229-EF8F-4F9E-9613-3FEB187E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1A51E-6C35-45DD-AC50-BD563CFF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EC4DD-E3C1-4C89-8F50-BB9F8945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18CA2-1820-45E8-98E1-B7B6E0CE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9099C-BBB1-42C7-8E75-8E5C8991A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2C6F2-092F-4D22-B3C9-AFA02BF4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03369-56B9-4B73-A82F-66CF8B43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8B243-80CC-4494-8255-670ABF89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04E1-4193-4DEA-908C-77D4335134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slide" Target="slide103.xml"/><Relationship Id="rId3" Type="http://schemas.openxmlformats.org/officeDocument/2006/relationships/slide" Target="slide103.xml"/><Relationship Id="rId4" Type="http://schemas.openxmlformats.org/officeDocument/2006/relationships/slide" Target="slide103.xml"/><Relationship Id="rId5" Type="http://schemas.openxmlformats.org/officeDocument/2006/relationships/slide" Target="slide104.xml"/><Relationship Id="rId6" Type="http://schemas.openxmlformats.org/officeDocument/2006/relationships/slide" Target="slide104.xml"/><Relationship Id="rId7" Type="http://schemas.openxmlformats.org/officeDocument/2006/relationships/slide" Target="slide104.xml"/><Relationship Id="rId8" Type="http://schemas.openxmlformats.org/officeDocument/2006/relationships/slide" Target="slide105.xml"/><Relationship Id="rId9" Type="http://schemas.openxmlformats.org/officeDocument/2006/relationships/slide" Target="slide105.xml"/><Relationship Id="rId10" Type="http://schemas.openxmlformats.org/officeDocument/2006/relationships/slide" Target="slide105.xml"/><Relationship Id="rId11" Type="http://schemas.openxmlformats.org/officeDocument/2006/relationships/slide" Target="slide102.xml"/><Relationship Id="rId1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" Target="slide101.xml"/><Relationship Id="rId3" Type="http://schemas.openxmlformats.org/officeDocument/2006/relationships/slide" Target="slide101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" Target="slide101.xml"/><Relationship Id="rId3" Type="http://schemas.openxmlformats.org/officeDocument/2006/relationships/slide" Target="slide101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3.xml"/><Relationship Id="rId3" Type="http://schemas.openxmlformats.org/officeDocument/2006/relationships/slide" Target="slide28.xml"/><Relationship Id="rId4" Type="http://schemas.openxmlformats.org/officeDocument/2006/relationships/slide" Target="slide39.xml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2.xml"/><Relationship Id="rId5" Type="http://schemas.openxmlformats.org/officeDocument/2006/relationships/slide" Target="slide33.xml"/><Relationship Id="rId6" Type="http://schemas.openxmlformats.org/officeDocument/2006/relationships/slide" Target="slide34.xml"/><Relationship Id="rId7" Type="http://schemas.openxmlformats.org/officeDocument/2006/relationships/slide" Target="slide36.xml"/><Relationship Id="rId8" Type="http://schemas.openxmlformats.org/officeDocument/2006/relationships/slide" Target="slide37.xml"/><Relationship Id="rId9" Type="http://schemas.openxmlformats.org/officeDocument/2006/relationships/slide" Target="slide38.xml"/><Relationship Id="rId10" Type="http://schemas.openxmlformats.org/officeDocument/2006/relationships/slide" Target="slide35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" Target="slide42.xml"/><Relationship Id="rId5" Type="http://schemas.openxmlformats.org/officeDocument/2006/relationships/slide" Target="slide43.xml"/><Relationship Id="rId6" Type="http://schemas.openxmlformats.org/officeDocument/2006/relationships/slide" Target="slide35.xml"/><Relationship Id="rId7" Type="http://schemas.openxmlformats.org/officeDocument/2006/relationships/slide" Target="slide45.xml"/><Relationship Id="rId8" Type="http://schemas.openxmlformats.org/officeDocument/2006/relationships/slide" Target="slide46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" Target="slide124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5.xml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50.xml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slide" Target="slide53.xml"/><Relationship Id="rId6" Type="http://schemas.openxmlformats.org/officeDocument/2006/relationships/slide" Target="slide60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file:///E:/&#36164;&#26009;/&#35838;&#20214;/&#26032;&#24314;%20Microsoft%20PowerPoint%20&#28436;&#31034;&#25991;&#31295;.ppt" TargetMode="External"/><Relationship Id="rId3" Type="http://schemas.openxmlformats.org/officeDocument/2006/relationships/slide" Target="slide47.xml"/><Relationship Id="rId4" Type="http://schemas.openxmlformats.org/officeDocument/2006/relationships/hyperlink" Target="file:///E:/&#36164;&#26009;/&#35838;&#20214;/&#26032;&#24314;%20Microsoft%20PowerPoint%20&#28436;&#31034;&#25991;&#31295;.ppt" TargetMode="External"/><Relationship Id="rId5" Type="http://schemas.openxmlformats.org/officeDocument/2006/relationships/slide" Target="slide63.xml"/><Relationship Id="rId6" Type="http://schemas.openxmlformats.org/officeDocument/2006/relationships/hyperlink" Target="file:///E:/&#36164;&#26009;/&#35838;&#20214;/&#26032;&#24314;%20Microsoft%20PowerPoint%20&#28436;&#31034;&#25991;&#31295;.ppt" TargetMode="External"/><Relationship Id="rId7" Type="http://schemas.openxmlformats.org/officeDocument/2006/relationships/slide" Target="slide114.xml"/><Relationship Id="rId8" Type="http://schemas.openxmlformats.org/officeDocument/2006/relationships/hyperlink" Target="file:///E:/&#36164;&#26009;/&#35838;&#20214;/&#26032;&#24314;%20Microsoft%20PowerPoint%20&#28436;&#31034;&#25991;&#31295;.ppt" TargetMode="External"/><Relationship Id="rId9" Type="http://schemas.openxmlformats.org/officeDocument/2006/relationships/slide" Target="slide120.xml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54.xml"/><Relationship Id="rId3" Type="http://schemas.openxmlformats.org/officeDocument/2006/relationships/slide" Target="slide55.xml"/><Relationship Id="rId4" Type="http://schemas.openxmlformats.org/officeDocument/2006/relationships/slide" Target="slide59.xml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6.xml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slide" Target="slide58.xml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5.xm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61.xml"/><Relationship Id="rId3" Type="http://schemas.openxmlformats.org/officeDocument/2006/relationships/slide" Target="slide62.xml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4.xml"/><Relationship Id="rId3" Type="http://schemas.openxmlformats.org/officeDocument/2006/relationships/slide" Target="slide82.xml"/><Relationship Id="rId4" Type="http://schemas.openxmlformats.org/officeDocument/2006/relationships/slide" Target="slide86.xml"/><Relationship Id="rId5" Type="http://schemas.openxmlformats.org/officeDocument/2006/relationships/slide" Target="slide95.xml"/><Relationship Id="rId6" Type="http://schemas.openxmlformats.org/officeDocument/2006/relationships/slide" Target="slide98.xml"/><Relationship Id="rId7" Type="http://schemas.openxmlformats.org/officeDocument/2006/relationships/slide" Target="slide110.xml"/><Relationship Id="rId8" Type="http://schemas.openxmlformats.org/officeDocument/2006/relationships/slide" Target="slide113.xml"/><Relationship Id="rId9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5.xml"/><Relationship Id="rId3" Type="http://schemas.openxmlformats.org/officeDocument/2006/relationships/slide" Target="slide71.xml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4.xml"/><Relationship Id="rId3" Type="http://schemas.openxmlformats.org/officeDocument/2006/relationships/slide" Target="slide66.xml"/><Relationship Id="rId4" Type="http://schemas.openxmlformats.org/officeDocument/2006/relationships/slide" Target="slide70.xml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67.xml"/><Relationship Id="rId3" Type="http://schemas.openxmlformats.org/officeDocument/2006/relationships/slide" Target="slide68.xml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9.xm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slide" Target="slide19.xml"/><Relationship Id="rId4" Type="http://schemas.openxmlformats.org/officeDocument/2006/relationships/image" Target="../media/image7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72.xml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" Target="slide75.xml"/><Relationship Id="rId3" Type="http://schemas.openxmlformats.org/officeDocument/2006/relationships/slide" Target="slide76.xml"/><Relationship Id="rId4" Type="http://schemas.openxmlformats.org/officeDocument/2006/relationships/slide" Target="slide77.xml"/><Relationship Id="rId5" Type="http://schemas.openxmlformats.org/officeDocument/2006/relationships/slide" Target="slide77.xml"/><Relationship Id="rId6" Type="http://schemas.openxmlformats.org/officeDocument/2006/relationships/slide" Target="slide78.xml"/><Relationship Id="rId7" Type="http://schemas.openxmlformats.org/officeDocument/2006/relationships/slide" Target="slide78.xml"/><Relationship Id="rId8" Type="http://schemas.openxmlformats.org/officeDocument/2006/relationships/slide" Target="slide79.xml"/><Relationship Id="rId9" Type="http://schemas.openxmlformats.org/officeDocument/2006/relationships/slide" Target="slide79.xml"/><Relationship Id="rId10" Type="http://schemas.openxmlformats.org/officeDocument/2006/relationships/slide" Target="slide80.xml"/><Relationship Id="rId11" Type="http://schemas.openxmlformats.org/officeDocument/2006/relationships/slide" Target="slide81.xml"/><Relationship Id="rId12" Type="http://schemas.openxmlformats.org/officeDocument/2006/relationships/slide" Target="slide81.xml"/><Relationship Id="rId1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83.xml"/><Relationship Id="rId3" Type="http://schemas.openxmlformats.org/officeDocument/2006/relationships/slide" Target="slide84.xml"/><Relationship Id="rId4" Type="http://schemas.openxmlformats.org/officeDocument/2006/relationships/slide" Target="slide85.xml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87.xml"/><Relationship Id="rId3" Type="http://schemas.openxmlformats.org/officeDocument/2006/relationships/slide" Target="slide88.xml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slide" Target="slide90.xml"/><Relationship Id="rId3" Type="http://schemas.openxmlformats.org/officeDocument/2006/relationships/slide" Target="slide89.xml"/><Relationship Id="rId4" Type="http://schemas.openxmlformats.org/officeDocument/2006/relationships/slide" Target="slide91.xml"/><Relationship Id="rId5" Type="http://schemas.openxmlformats.org/officeDocument/2006/relationships/slide" Target="slide92.xml"/><Relationship Id="rId6" Type="http://schemas.openxmlformats.org/officeDocument/2006/relationships/slide" Target="slide93.xml"/><Relationship Id="rId7" Type="http://schemas.openxmlformats.org/officeDocument/2006/relationships/slide" Target="slide94.xml"/><Relationship Id="rId8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96.xml"/><Relationship Id="rId3" Type="http://schemas.openxmlformats.org/officeDocument/2006/relationships/slide" Target="slide97.xml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99.xml"/><Relationship Id="rId3" Type="http://schemas.openxmlformats.org/officeDocument/2006/relationships/slide" Target="slide101.xml"/><Relationship Id="rId4" Type="http://schemas.openxmlformats.org/officeDocument/2006/relationships/slide" Target="slide106.xml"/><Relationship Id="rId5" Type="http://schemas.openxmlformats.org/officeDocument/2006/relationships/slide" Target="slide100.xml"/><Relationship Id="rId6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636640"/>
            <a:ext cx="64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Verdana"/>
              </a:rPr>
              <a:t>第七节   </a:t>
            </a:r>
            <a:br>
              <a:rPr sz="6000"/>
            </a:br>
            <a:r>
              <a:rPr b="1" lang="zh-CN" sz="6000" spc="-1" strike="noStrike">
                <a:solidFill>
                  <a:srgbClr val="ffff66"/>
                </a:solidFill>
                <a:latin typeface="Verdana"/>
              </a:rPr>
              <a:t>腹部评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blinds dir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D83F-A8AC-4C4D-9BE0-B5BC9A59F25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上角（胸骨下角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640" y="2421000"/>
            <a:ext cx="6656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两侧肋弓的夹角，剑突根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用于判断体形及肝脾的测量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D96A-32AB-44FF-8C7B-802D60170EE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大及伴随症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肿大伴压痛：脾脓肿、脾栓塞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肿大伴压痛及摩擦感：脾周围炎、脾栓塞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大表面光滑：慢性疟疾、黑热病、慢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大表面凹凸不平：脾肿瘤、结核、淋巴肉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307C-1A09-44CE-8E5F-3238E0F8F3C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大的测量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甲乙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1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甲丙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2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丁戊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9" action="ppaction://hlinksldjump"/>
              </a:rPr>
              <a:t>3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表示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38F7-9FE0-4D4C-BC8A-686D24626CD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表示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正数表示： 如脾大超过正中线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测右缘到正中线的最大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+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厘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负数表示：未超过正中线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则测脾右缘到正中线的最短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-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厘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A3DF-17F3-4401-9892-515A8B4E631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甲乙线（</a:t>
            </a:r>
            <a:r>
              <a:rPr b="0" lang="en-US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1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在锁骨中线上左肋弓缘至脾下缘间的距离（厘米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轻度肿大时适用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只测此线即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11" name="Picture 8" descr="未命名"/>
          <p:cNvPicPr/>
          <p:nvPr/>
        </p:nvPicPr>
        <p:blipFill>
          <a:blip r:embed="rId4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EEA2-F93B-4B63-839C-02BE8A36139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3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甲丙线（</a:t>
            </a:r>
            <a:r>
              <a:rPr b="0" lang="en-US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2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8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在锁骨中线上左肋弓点到最远脾尖之间的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16" name="Picture 8" descr="未命名"/>
          <p:cNvPicPr/>
          <p:nvPr/>
        </p:nvPicPr>
        <p:blipFill>
          <a:blip r:embed="rId4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A5EC-C11E-4DF1-BB19-49FEC6D9819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丁戊线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右缘到正中线的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1" name="Picture 6" descr="未命名"/>
          <p:cNvPicPr/>
          <p:nvPr/>
        </p:nvPicPr>
        <p:blipFill>
          <a:blip r:embed="rId2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4F1C-68C8-4CA1-985B-772BA57B633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脾大分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59280" y="1773000"/>
            <a:ext cx="4279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轻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中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高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60BB-231C-4E9C-AC5B-B957AB46252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轻度肿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604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深吸气时，脾在肋缘下不超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2c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急慢性肝炎、伤寒、感染性心内膜炎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56F6-63F8-44A5-8F75-792D0C03310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中度肿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脾下缘超过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2c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至脐水平线以上者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肝硬化、慢性淋巴性白血病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E05C-47ED-4CD3-BC24-971CF44ECB9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高度肿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脾下缘超过脐水平线或前正中线，即巨脾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慢性淋巴性白血病、淋巴瘤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BB90-7696-42BF-853A-D0FB2C09072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中线（腹白线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前正中线的延续，为腹部四区分法的垂直线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9729-1002-40B9-AE26-088E8FEAC80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肾触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一般用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病变压痛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5677-7624-4A73-95F3-D0782C91E09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常见病变压痛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脊点：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与脊柱形成的夹角顶点，又称肋脊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腰点：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骨和腰肌外缘形成的夹角顶点，又称肋腰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上输尿管点：位于腹直肌外缘平脐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中输尿管点：位于两髂前上棘连线与通过耻骨结节所做垂直                         线的交点上，相当于输尿管进入骨盆腔之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652A-DA25-4F9D-9A2C-FFE101762D2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肋脊点、肋腰点出现压痛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肾盂肾炎、肾脓肿、肾结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上输尿管和中输尿管点出现压痛 ：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输尿管结石或化脓性炎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A2B8-5446-4DA6-BCA6-27ED2F2E1F9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膀胱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86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方法：单手滑行触诊法：以左手自脐水平向耻骨方向触诊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膀胱内有尿液充盈时胀大，触之有囊性感，不易推动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手压时有尿感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轻度肿大：仅在耻骨联合之上触及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中度肿大：可在耻骨上方触及横置的椭圆形的膀胱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明显肿大：下腹部高度膨隆，膀胱呈球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膀胱胀大常见于尿路梗阻、昏迷、 腰麻后等原因所致的尿潴留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C19F-250B-4AD6-B6E9-A2C6798E0B7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530520" y="304560"/>
            <a:ext cx="5384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叩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68360" y="1699920"/>
            <a:ext cx="4818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叩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浊音上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叩击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7F1B-995F-45A8-86BA-F8312641A85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腹部叩诊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腹部叩诊音呈鼓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其音响程度与胃肠道充气量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9486-4612-4571-AA97-CEEA42F3E49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移动性浊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叩诊时叩诊音变浊，且可随体位改变而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当腹腔内游离腹水量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0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以上时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移动性浊音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液波震颤常需有大量腹水时才可测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水量少时，取膝肘位叩诊，脐处叩诊呈浊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6" name="WordArt 5"/>
          <p:cNvSpPr txBox="1"/>
          <p:nvPr/>
        </p:nvSpPr>
        <p:spPr>
          <a:xfrm>
            <a:off x="5003640" y="558972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误认为腹水的情况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9A9F-62B1-4DCA-9268-4EF92794B69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误认为腹水的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9448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肠管内有大量液体潴留时，可因患者体位改变产生移动性浊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巨大的卵巢囊肿可误认为腹水。与腹水的鉴别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卵巢囊肿不同于腹水，仰卧时卵巢囊肿的浊音在腹中部，鼓音区在腹部两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卵巢囊肿的浊音无移动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71" name="Picture 4" descr=""/>
          <p:cNvPicPr/>
          <p:nvPr/>
        </p:nvPicPr>
        <p:blipFill>
          <a:blip r:embed="rId1"/>
          <a:stretch/>
        </p:blipFill>
        <p:spPr>
          <a:xfrm>
            <a:off x="3995640" y="3645000"/>
            <a:ext cx="1887480" cy="23749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5" descr=""/>
          <p:cNvPicPr/>
          <p:nvPr/>
        </p:nvPicPr>
        <p:blipFill>
          <a:blip r:embed="rId2"/>
          <a:stretch/>
        </p:blipFill>
        <p:spPr>
          <a:xfrm>
            <a:off x="6804000" y="3645000"/>
            <a:ext cx="1687680" cy="237636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6"/>
          <p:cNvSpPr/>
          <p:nvPr/>
        </p:nvSpPr>
        <p:spPr>
          <a:xfrm>
            <a:off x="4654440" y="607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</a:rPr>
              <a:t>腹水</a:t>
            </a:r>
            <a:endParaRPr b="0" lang="en-US" sz="2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7326360" y="6073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</a:rPr>
              <a:t>卵巢囊肿</a:t>
            </a:r>
            <a:endParaRPr b="0" lang="en-US" sz="20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FBDF-532A-485A-8049-F1AC1F265F7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肝浊音上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68000" y="1676160"/>
            <a:ext cx="8351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右锁骨中线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5~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肋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肺气肿：可使肝下界下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严重腹水、肝大  ：使肝上界上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胃肠穿孔（气体逸出，进入腹腔）：肝浊音可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17EB-3017-4A9B-A9EF-206E97E4133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叩击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手平放在被检脏器的体表位置上，右手握拳叩击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手背。如患者感到疼痛，称叩击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各脏器无叩击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AE84-86A6-4EC9-83FE-5CDB852A03F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    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脐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76000" y="1916280"/>
            <a:ext cx="69231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是腹部中心，位于第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腰椎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是腹部四区分法、阑尾压痛点及腰椎穿刺的定位标志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6F16-6260-45AC-A52C-C2D0D0318DC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987640" y="333360"/>
            <a:ext cx="5867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听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348000" y="2276280"/>
            <a:ext cx="395928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振水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EA6A-026C-4538-9BBD-E676A883694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肠鸣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蠕动产生的声音正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（脐部明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鸣音亢进：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，见于急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鸣音减弱或消失：持续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钟以上才听到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或听不到肠鸣音。见于肠麻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BA3D-A0E1-4B05-8302-BC26A16B01C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振水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50920" y="1371600"/>
            <a:ext cx="866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四指连续迅速地冲击患者上腹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仅在饭后多饮时出现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梗阻、胃扩张：空腹或饭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~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时以上，胃部仍有振水音，则提示胃排空不良。见于幽门梗阻、胃扩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4DC0-DF60-4398-8826-4231B1B02FF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课后小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腹部检查是体格检查的重要组成部分；腹部检查内容多、复杂；主要包括视、触、叩、听检查，期中触诊是腹部主要的检查方法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视诊：腹部外形、呼吸运动、腹壁静脉曲、胃肠型和蠕动波。在腹部视诊的检查过程中，要仔细对腹部表面的脏器轮廓、包块、蠕动波进行观察，结合其他检查方法对腹部检查做出正确的、有意义的评估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听诊：肠鸣音、振水音、血管杂音。为了避免触诊引起胃肠蠕动增加，使肠鸣音发生变化，腹部检查的顺序为视、听、触、叩，但记录时为了统一格式仍按视、触、叩、听的顺序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叩诊：脏器叩诊、移动性浊音、叩痛。正确掌握叩诊某些腹腔脏器边界位置及有无叩痛，腹腔内积气积液情况，进一步验证视诊与触诊的结果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触诊：腹壁紧张度、压痛和反跳痛、脏器触诊。触诊是腹部检查中最重要的一步，必须掌握各种触诊的正确手法和顺序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腹部评估可以帮助我们了解腹部脏器的一些病变情况，掌握腹部评估中的一些异常和正常情况，可以帮助护士在护理患者时及时发现问题及时上报，对于腹部评估的方法必须反复练习才能掌握。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8BEC-88FE-4A99-AD67-75BC9EA16E3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课后习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2916360" y="1413000"/>
            <a:ext cx="3690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填空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名词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简答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案例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F015-C18A-4F53-8211-1F3F15F99E7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选择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胆囊炎时，下列哪项为阳性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Murphy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Courvoisier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Oliver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Grey-Turnet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Cullen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腹部触及包块时，包块与周围组织粘连，不易推动，压痛明显者，应考虑（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良性肿瘤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恶性肿瘤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囊肿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炎性肿块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游离脏器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女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0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岁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小时前无诱因突然上腹刀割样疼痛，不敢直腰，腹肌紧张压痛、反跳痛明显，肝浊音界消失，应首先考虑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阑尾炎穿孔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宫外孕破裂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消化性溃疡急性穿孔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绞窄性肠梗阻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出血坏死性胰腺炎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男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4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岁，主诉腹痛，腹部肠鸣音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分，且音调高呈金属音，最大可能为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肠炎  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胃扩张  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幽门梗阻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机械性肠梗阻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腹膜炎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8F06-C46B-4823-8313-7E6E0BC2C38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填空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膜刺激征指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、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梗阻时，在腹壁上可看到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蠕动波和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ED0A-F6CC-49C0-B228-FE44FF94A9F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名词解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979280" y="1267920"/>
            <a:ext cx="469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亢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板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56C0-8E9F-48EF-BA4A-1D1DD94A30A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简答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46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何为肠鸣音亢进？何为肠鸣音减弱或消失？其临床意义如何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触诊时如触及肿块，应注意描述肿块的哪些内容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?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巨大卵巢囊肿与腹水如何鉴别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DB0F-AD09-4D46-9D4B-D392D887658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患者女性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5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岁，有乙肝病史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，近来感腹胀而就诊。查体：面部见蜘蛛痣，腹肌柔软，移动性浊音阳性。请回答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根据该病人病史及临床表现，你考虑此病人目前的医学诊断是什么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该病人治疗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个月复查，查体移动性浊音消失，提示发生了什么变化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后复查，查体出现液波震颤提示病人发生了什么变化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一患者起病急，上腹部痛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后转右下腹痛伴恶心呕吐，体温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7.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℃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。查体：位于脐与右髂前上棘中外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/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交界处出现明显固定的压痛和反跳痛，局部腹壁紧张。请问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你首先考虑该患者发生了什么情况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?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其诊断依据是什么？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10F0-38DD-497E-86CF-EEE0460ADC2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髂前上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髂棘前方的突出点，为腹部九区分法、阑尾压痛点的定位标志及骨髓穿刺的部位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136F-C61A-4D63-BA4E-EB9FAD4DB3A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直肌外缘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Arial"/>
                <a:hlinkClick r:id="rId2" action="ppaction://hlinksldjump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675324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抬头抬肩时可明显辨认，相当于锁骨中线的延续，右侧腹直肌外缘与肋弓下缘的交界处为胆囊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常为手术切口的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9420-1835-46B1-BBD4-07FE6A04A49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股沟韧带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6920" y="1052280"/>
            <a:ext cx="777240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是腹部体表的下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寻找股动、静脉和腹股沟疝通过部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400E-1937-42B0-9EAF-2DDB64BC943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肋脊角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828800" y="2666880"/>
            <a:ext cx="6858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背部两侧第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肋骨与脊柱的交角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为检查肾叩痛的位置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2B2A-4A90-4A17-90A1-34A66E7B6BD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耻骨联合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86108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为腹中线最下部的骨性标志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B337-5068-4BCF-A212-28071416855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6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体表标志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8" descr="腹部前面体表标志图"/>
          <p:cNvPicPr/>
          <p:nvPr/>
        </p:nvPicPr>
        <p:blipFill>
          <a:blip r:embed="rId2"/>
          <a:stretch/>
        </p:blipFill>
        <p:spPr>
          <a:xfrm>
            <a:off x="1187280" y="1376280"/>
            <a:ext cx="750096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7C16-7B1D-4A56-B5BF-5750C33FCCE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9831-009F-4F02-B588-52647DBE6192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95640" y="333000"/>
            <a:ext cx="4864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分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916360" y="220464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四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九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ea typeface="黑体"/>
                <a:hlinkClick r:id="rId4" action="ppaction://hlinksldjump"/>
              </a:rPr>
              <a:t>七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22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22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228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1979640" y="3068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1763640" y="3789360"/>
            <a:ext cx="679680" cy="665280"/>
          </a:xfrm>
          <a:prstGeom prst="hexagon">
            <a:avLst>
              <a:gd name="adj" fmla="val 25541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5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B2FE-1C8D-4A5B-B3D8-C4F2ECA6168F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1971720" y="393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E266-E92C-459D-B14A-0F86A46F601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熟记腹壁静脉曲张的概念、移动性浊音的概念、腹膜刺激征的概念、压痛与反跳痛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描述肠鸣音活跃、亢进、减弱和消失的判断标准、腹部触诊的注意事项、常见腹部压痛点及位置、脾大的分度、腹部的体表标志及分区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知道腹部各区与腹腔脏器的对应关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归纳腹部视诊、触诊的异常体征及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运用本节所学知识能正确对腹部进行视、触、叩、听检查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EC68-F2C2-49C2-B3F0-8500DD62766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七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1" name="Picture 8" descr="复件 腹部体表分区示意图图(七分法)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79A4-C6DF-4335-8B78-16F0435580C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3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九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Picture 5" descr="复件 腹部体表分区示意图图(九区分法)"/>
          <p:cNvPicPr/>
          <p:nvPr/>
        </p:nvPicPr>
        <p:blipFill>
          <a:blip r:embed="rId2"/>
          <a:stretch/>
        </p:blipFill>
        <p:spPr>
          <a:xfrm>
            <a:off x="1692360" y="1268280"/>
            <a:ext cx="69134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B340-B0FC-48C2-B7CA-EFE2270E61F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7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四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Picture 1029" descr="腹部体表分区示意图图(四分法)"/>
          <p:cNvPicPr/>
          <p:nvPr/>
        </p:nvPicPr>
        <p:blipFill>
          <a:blip r:embed="rId2"/>
          <a:stretch/>
        </p:blipFill>
        <p:spPr>
          <a:xfrm>
            <a:off x="900000" y="1413000"/>
            <a:ext cx="785664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6B28-243C-4A5A-A957-1A5E7BFD2BA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四区分法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过脐划一水平线与一垂直线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两线相交将腹部分为四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右上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左上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右下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左下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6877080" y="2637000"/>
            <a:ext cx="13716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ECF8-B4A4-4FD0-8652-6D08343AEAE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72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                              十二指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右叶                           胆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胰头                              右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腺                        结肠肝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升结肠及横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21F4-9619-4DAA-AD5D-0088FC399CD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                                 部分小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横结肠和降结肠          肝左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脾                                 胰体及胰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                              左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肠脾曲及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9283-9E12-4DD8-AF02-520AF7192AE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  盲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阑尾                                部分升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充盈的膀胱                       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侧输尿管                       男性右侧精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右侧卵巢及输卵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BB9E-2BFF-4A30-80A2-1C11373AA47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  部分降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                          充盈的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输尿管                          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左侧卵巢及输卵管        男性左侧精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10E1-3D39-482E-A7CC-68B6A589FC1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九区分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由两条水平线和两条垂直线将腹部分为井字形的九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上面的水平线为两侧肋弓下缘连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面的水平线为两侧髂前上棘连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通过左右髂前上棘至腹中线连线的中点划两条垂直线，将腹部分为九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各区的主要脏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WordArt 4"/>
          <p:cNvSpPr txBox="1"/>
          <p:nvPr/>
        </p:nvSpPr>
        <p:spPr>
          <a:xfrm>
            <a:off x="6804000" y="2133720"/>
            <a:ext cx="16556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4884-3BFF-4519-A71E-0372A1B2547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各区的主要脏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340000" y="1196640"/>
            <a:ext cx="5346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5318280" y="1916280"/>
            <a:ext cx="549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953880" y="2133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2" action="ppaction://hlinksldjump"/>
              </a:rPr>
              <a:t>左侧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1577520" y="2133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3" action="ppaction://hlinksldjump"/>
              </a:rPr>
              <a:t>左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6330240" y="220500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4" action="ppaction://hlinksldjump"/>
              </a:rPr>
              <a:t>左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157752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5" action="ppaction://hlinksldjump"/>
              </a:rPr>
              <a:t>右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395388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6" action="ppaction://hlinksldjump"/>
              </a:rPr>
              <a:t>右侧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625752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7" action="ppaction://hlinksldjump"/>
              </a:rPr>
              <a:t>右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1661040" y="4292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8" action="ppaction://hlinksldjump"/>
              </a:rPr>
              <a:t>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3964320" y="436572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9" action="ppaction://hlinksldjump"/>
              </a:rPr>
              <a:t>中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9" name="Text Box 20"/>
          <p:cNvSpPr/>
          <p:nvPr/>
        </p:nvSpPr>
        <p:spPr>
          <a:xfrm>
            <a:off x="6269400" y="4292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10" action="ppaction://hlinksldjump"/>
              </a:rPr>
              <a:t>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FB5C-C2EA-4FA3-9727-3CE172553DB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案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患者男性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岁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前常因过劳、气候变化及饮食不洁而反复发作上腹部隐痛，疼痛多于餐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~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发生，伴反酸、嗳气，进餐后缓解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前大量饮酒后突感上腹部剧烈疼痛，恶心，呕吐血性胃内容物两次，约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00 ml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，急诊入院。查体：患者烦躁不安，皮肤湿冷、意识模糊，呼吸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0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次／分，尿少，血压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80/60mmHg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，脉搏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5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分，腹软，上腹偏右压痛，无反跳痛，无腹壁紧张，肠鸣音活跃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请思考：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本患者可能发生什么情况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判断患者目前的出血量大约是多少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护士对该患者应该如何进行护理评估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C589-C524-4199-8630-E30ABB28A96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979640" y="1341000"/>
            <a:ext cx="563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               结肠脾曲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脾               胰尾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            左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降结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42F9-97E9-4702-9E36-062F2791BB9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侧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131640" y="1557000"/>
            <a:ext cx="485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降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空肠或回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下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83D8-C17C-49ED-AEBD-A06BBFEABF9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56000" y="1413000"/>
            <a:ext cx="541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淋巴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左侧卵巢及输卵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男性左侧精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7DE6-B9EC-4F55-92EB-E82112D4017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700000" y="1413000"/>
            <a:ext cx="527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右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胆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肠肝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F6D2-3434-4776-A7F3-58860001D92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侧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564000" y="1980720"/>
            <a:ext cx="505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升结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空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右肾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325F-816C-4FA5-8436-90F27746E19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76360" y="1196640"/>
            <a:ext cx="455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回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输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充盈的膀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34C4-F2BE-4869-88F5-D1DA38A1D97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43280" y="1196640"/>
            <a:ext cx="60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盲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阑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回肠下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淋巴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男性右侧精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右侧卵巢及输卵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165C-E3C5-4ADB-A0DF-156823690AA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916000" y="1267920"/>
            <a:ext cx="505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左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十二指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横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大网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胰头与胰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00D7-E9EB-4537-B52B-A2411C841C2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中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987280" y="1341000"/>
            <a:ext cx="469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十二指肠下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空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回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横结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下垂的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输尿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系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主动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大网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B334-D5BB-4CE2-8323-53DBF086BF9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七区分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341360"/>
            <a:ext cx="83059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在九区法的基础上，将两侧腹部的三区改为通过脐的水平线分成上下两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左上腹部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左下腹部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上腹部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脐部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下腹部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右上腹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右下腹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WordArt 4"/>
          <p:cNvSpPr txBox="1"/>
          <p:nvPr/>
        </p:nvSpPr>
        <p:spPr>
          <a:xfrm>
            <a:off x="5364000" y="3716280"/>
            <a:ext cx="13716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95CF-D8F6-463B-8BCB-5641A9EAD1C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1819440" y="1787400"/>
            <a:ext cx="688320" cy="594000"/>
            <a:chOff x="1819440" y="1787400"/>
            <a:chExt cx="688320" cy="594000"/>
          </a:xfrm>
        </p:grpSpPr>
        <p:sp>
          <p:nvSpPr>
            <p:cNvPr id="124" name="AutoShape 5"/>
            <p:cNvSpPr/>
            <p:nvPr/>
          </p:nvSpPr>
          <p:spPr>
            <a:xfrm>
              <a:off x="1824840" y="17974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25" name="AutoShape 6"/>
            <p:cNvSpPr/>
            <p:nvPr/>
          </p:nvSpPr>
          <p:spPr>
            <a:xfrm>
              <a:off x="1819440" y="17874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26" name="AutoShape 7"/>
            <p:cNvSpPr/>
            <p:nvPr/>
          </p:nvSpPr>
          <p:spPr>
            <a:xfrm>
              <a:off x="1859400" y="182232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127" name="Text Box 8"/>
          <p:cNvSpPr/>
          <p:nvPr/>
        </p:nvSpPr>
        <p:spPr>
          <a:xfrm>
            <a:off x="1991520" y="1844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1819440" y="25495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979640" y="2637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835280" y="465300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56000" y="234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2" name="Line 19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255600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2987640" y="407664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1835280" y="3429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79640" y="350028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7" name="Rectangle 28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目录</a:t>
            </a:r>
            <a:endParaRPr b="0" lang="en-US" sz="4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2556000" y="472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9" name="AutoShape 16"/>
          <p:cNvSpPr/>
          <p:nvPr/>
        </p:nvSpPr>
        <p:spPr>
          <a:xfrm>
            <a:off x="1835280" y="422100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979640" y="4292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1" name="Text Box 32"/>
          <p:cNvSpPr/>
          <p:nvPr/>
        </p:nvSpPr>
        <p:spPr>
          <a:xfrm>
            <a:off x="2741760" y="4168800"/>
            <a:ext cx="1974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6" action="ppaction://hlinksldjump"/>
              </a:rPr>
              <a:t>课后习题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2" name="Text Box 33"/>
          <p:cNvSpPr/>
          <p:nvPr/>
        </p:nvSpPr>
        <p:spPr>
          <a:xfrm>
            <a:off x="2916360" y="1844640"/>
            <a:ext cx="115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7" action="ppaction://hlinksldjump"/>
              </a:rPr>
              <a:t>概述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3" name="Text Box 34"/>
          <p:cNvSpPr/>
          <p:nvPr/>
        </p:nvSpPr>
        <p:spPr>
          <a:xfrm>
            <a:off x="2627280" y="2565360"/>
            <a:ext cx="4103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8" action="ppaction://hlinksldjump"/>
              </a:rPr>
              <a:t>腹部的体表标志与分区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4" name="Text Box 35"/>
          <p:cNvSpPr/>
          <p:nvPr/>
        </p:nvSpPr>
        <p:spPr>
          <a:xfrm>
            <a:off x="2543040" y="3376440"/>
            <a:ext cx="3829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9" action="ppaction://hlinksldjump"/>
              </a:rPr>
              <a:t>腹部评估方法及内容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00360" y="1787400"/>
            <a:ext cx="688320" cy="594000"/>
            <a:chOff x="1800360" y="1787400"/>
            <a:chExt cx="688320" cy="594000"/>
          </a:xfrm>
        </p:grpSpPr>
        <p:sp>
          <p:nvSpPr>
            <p:cNvPr id="146" name="AutoShape 5"/>
            <p:cNvSpPr/>
            <p:nvPr/>
          </p:nvSpPr>
          <p:spPr>
            <a:xfrm>
              <a:off x="1805760" y="17974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47" name="AutoShape 6"/>
            <p:cNvSpPr/>
            <p:nvPr/>
          </p:nvSpPr>
          <p:spPr>
            <a:xfrm>
              <a:off x="1800360" y="17874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48" name="AutoShape 7"/>
            <p:cNvSpPr/>
            <p:nvPr/>
          </p:nvSpPr>
          <p:spPr>
            <a:xfrm>
              <a:off x="1840320" y="182232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149" name="Text Box 8"/>
          <p:cNvSpPr/>
          <p:nvPr/>
        </p:nvSpPr>
        <p:spPr>
          <a:xfrm>
            <a:off x="1972440" y="1844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0" name="Line 18"/>
          <p:cNvSpPr/>
          <p:nvPr/>
        </p:nvSpPr>
        <p:spPr>
          <a:xfrm>
            <a:off x="2536920" y="234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1" name="Text Box 42"/>
          <p:cNvSpPr/>
          <p:nvPr/>
        </p:nvSpPr>
        <p:spPr>
          <a:xfrm>
            <a:off x="2897280" y="1844640"/>
            <a:ext cx="115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13" action="ppaction://hlinksldjump"/>
              </a:rPr>
              <a:t>概述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2" name="WordArt 46"/>
          <p:cNvSpPr txBox="1"/>
          <p:nvPr/>
        </p:nvSpPr>
        <p:spPr>
          <a:xfrm>
            <a:off x="5076720" y="5229360"/>
            <a:ext cx="1943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课后小结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2B90-CF5A-4948-8D39-09290F4B607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564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脾、胃、左肾、左肾上腺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胰尾、结肠脾曲、降结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6C95-D103-4B10-8198-5E14DF63E6C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39880" y="2650680"/>
            <a:ext cx="717552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降结肠、乙状结肠、左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女性左侧卵巢及输卵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男性左侧精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89BB-9EAF-41B3-98A2-C3E871B1DA5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92360" y="33336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980720" y="26665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胃、肝左叶、十二指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胰头和胰体、横结肠、腹主动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D65C-93D6-4AA7-B666-2FE2F139E10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脐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十二指肠下部、空肠及回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垂的胃或横结肠、腹主动脉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肠系膜及其淋巴结、大网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770E-C4ED-4C41-82EF-0C955A8ED50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42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71600" y="2514240"/>
            <a:ext cx="7238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回肠、乙状结肠及直肠、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胀大的膀胱和增大的子宫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0747-5A47-4806-BF2C-D4FA863D6A6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5867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肝右叶、胆囊、右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右肾上腺、结肠肝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650A-A3C7-45D3-9DE5-368F89C1B48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077560" y="2330280"/>
            <a:ext cx="6583320" cy="39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回盲部、阑尾、右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女性右侧卵巢及输卵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男性右侧精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D846-13D4-4D0B-914A-0EB4C141431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626920" y="2599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视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5640" y="22096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Verdana"/>
              </a:rPr>
              <a:t>    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正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cc"/>
                </a:solidFill>
                <a:latin typeface="Verdana"/>
              </a:rPr>
              <a:t>   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异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63" name="Picture 4" descr="太阳花"/>
          <p:cNvPicPr/>
          <p:nvPr/>
        </p:nvPicPr>
        <p:blipFill>
          <a:blip r:embed="rId4"/>
          <a:stretch/>
        </p:blipFill>
        <p:spPr>
          <a:xfrm>
            <a:off x="5867280" y="2057400"/>
            <a:ext cx="2590920" cy="2514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wbw02slg"/>
          <p:cNvPicPr/>
          <p:nvPr/>
        </p:nvPicPr>
        <p:blipFill>
          <a:blip r:embed="rId5"/>
          <a:stretch/>
        </p:blipFill>
        <p:spPr>
          <a:xfrm>
            <a:off x="2268360" y="42926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wbw02slg"/>
          <p:cNvPicPr/>
          <p:nvPr/>
        </p:nvPicPr>
        <p:blipFill>
          <a:blip r:embed="rId6"/>
          <a:stretch/>
        </p:blipFill>
        <p:spPr>
          <a:xfrm>
            <a:off x="2340000" y="2565360"/>
            <a:ext cx="28584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1CB4-DD46-4DC9-B303-DF083E96E03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正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036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正常人腹部外形对称，一般描述为平坦、凹陷、膨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发育营养良好的青壮年前腹壁与肋缘至耻骨大致位于同一水平面，称为腹部平坦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小儿及肥胖者前腹壁可高于肋缘至耻骨的平面，脐部多呈凹陷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前腹壁稍低于肋缘至耻骨的平面称为腹部低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明显膨隆或凹陷具有病理意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A82A-6BD4-4D7A-BCD1-3234D81D873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23640" y="33336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异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124080" y="182844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部膨隆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凹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式呼吸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腹壁静脉曲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胃肠蠕动波及肠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483E-7528-49DF-B684-BC45894223C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评估方法及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评估前，应嘱被评估者排空小便，被评估者取仰卧位，置一小枕于头下，两手自然放于躯干两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估者可与被评估者进行简单的交谈以帮助被评估者放松腹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评估方法仍然采用视诊、触诊、叩诊及听诊等基本方法。其中以触诊最为重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AutoShape 3">
            <a:hlinkClick r:id="rId2"/>
          </p:cNvPr>
          <p:cNvSpPr/>
          <p:nvPr/>
        </p:nvSpPr>
        <p:spPr>
          <a:xfrm>
            <a:off x="75564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3" action="ppaction://hlinksldjump"/>
              </a:rPr>
              <a:t>视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8" name="AutoShape 3">
            <a:hlinkClick r:id="rId4"/>
          </p:cNvPr>
          <p:cNvSpPr/>
          <p:nvPr/>
        </p:nvSpPr>
        <p:spPr>
          <a:xfrm>
            <a:off x="270036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5" action="ppaction://hlinksldjump"/>
              </a:rPr>
              <a:t>触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9" name="AutoShape 3">
            <a:hlinkClick r:id="rId6"/>
          </p:cNvPr>
          <p:cNvSpPr/>
          <p:nvPr/>
        </p:nvSpPr>
        <p:spPr>
          <a:xfrm>
            <a:off x="471636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7" action="ppaction://hlinksldjump"/>
              </a:rPr>
              <a:t>叩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0" name="AutoShape 3">
            <a:hlinkClick r:id="rId8"/>
          </p:cNvPr>
          <p:cNvSpPr/>
          <p:nvPr/>
        </p:nvSpPr>
        <p:spPr>
          <a:xfrm>
            <a:off x="673272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9" action="ppaction://hlinksldjump"/>
              </a:rPr>
              <a:t>听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55E6-8060-4027-A45A-16D9AE89451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膨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742840" y="2209680"/>
            <a:ext cx="5791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肥胖、妊娠晚期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大量腹水、巨大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5280-0B0F-4D53-832E-E3C08571BF4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凹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49672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见于极度消瘦或严重脱水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重者呈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舟状腹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3E7F-B955-40E7-A2E8-3AFCFBA2483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式呼吸消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6369120" cy="37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腹膜炎，腹肌和膈肌痉挛、强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胃穿孔、急性腹膜炎、腹水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6DD3-98E2-416E-BBAC-622F15782CB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静脉曲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正常人腹壁静脉一般看不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正常腹壁静脉血流方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异常腹壁静脉血流方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检查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41FF-BACF-4AFB-BD32-DC357FB10DF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正常腹壁静脉血流方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脐水平线以上的静脉自下向上经腹         壁静脉和腋静脉          上腔静脉。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脐水平线以下的腹壁静脉自上而下经大隐静脉           下腔静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Line 4"/>
          <p:cNvSpPr/>
          <p:nvPr/>
        </p:nvSpPr>
        <p:spPr>
          <a:xfrm>
            <a:off x="5334120" y="2895480"/>
            <a:ext cx="99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5" name="Line 5"/>
          <p:cNvSpPr/>
          <p:nvPr/>
        </p:nvSpPr>
        <p:spPr>
          <a:xfrm>
            <a:off x="5181480" y="2971800"/>
            <a:ext cx="99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6" name="Line 6"/>
          <p:cNvSpPr/>
          <p:nvPr/>
        </p:nvSpPr>
        <p:spPr>
          <a:xfrm>
            <a:off x="3851280" y="270828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7" name="Line 7"/>
          <p:cNvSpPr/>
          <p:nvPr/>
        </p:nvSpPr>
        <p:spPr>
          <a:xfrm>
            <a:off x="5029200" y="449568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8" name="Line 8"/>
          <p:cNvSpPr/>
          <p:nvPr/>
        </p:nvSpPr>
        <p:spPr>
          <a:xfrm>
            <a:off x="2411280" y="4724280"/>
            <a:ext cx="1067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CC10-2B66-4E10-B7C8-6C8A7C6D115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异常腹壁静脉血流方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447336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门脉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下腔静脉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上腔静脉阻塞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F626-11F3-4B8A-A644-52901DFBD92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门脉阻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门脉高压形成侧支循环时，曲张的静脉以脐为中心向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四周伸展，血液的流向为脐静脉                   脐孔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扩张的腹部浅表静脉：  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向上流入胸壁静脉、腋静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                                 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 向下流入大隐静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4500720" y="2637000"/>
            <a:ext cx="1371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pic>
        <p:nvPicPr>
          <p:cNvPr id="408" name="Picture 5" descr=""/>
          <p:cNvPicPr/>
          <p:nvPr/>
        </p:nvPicPr>
        <p:blipFill>
          <a:blip r:embed="rId2"/>
          <a:stretch/>
        </p:blipFill>
        <p:spPr>
          <a:xfrm>
            <a:off x="1103400" y="3860640"/>
            <a:ext cx="1941480" cy="23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0987-87B8-4E6C-A952-36192A475E7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腔静脉阻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70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曲张的静脉大都分布在腹壁两侧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脐水平线以下的静脉血液的流向不是向下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而是向上流入胸壁静脉和腋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2"/>
          <a:stretch/>
        </p:blipFill>
        <p:spPr>
          <a:xfrm>
            <a:off x="6659640" y="3933720"/>
            <a:ext cx="190188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C40C-094D-40AF-B9F6-98E9976952D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腔静脉阻塞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腹部的静脉血流方向不是向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而是向下流入腹壁静脉和大隐静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3"/>
          <a:stretch/>
        </p:blipFill>
        <p:spPr>
          <a:xfrm>
            <a:off x="6156360" y="3573360"/>
            <a:ext cx="207000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80A8-5CBF-4AC0-97F3-2E25F0F8CC7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检查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评估者用右手示指和中指并拢紧压在一段无分支的静脉上，其中一只手指紧紧压住静脉并向外滑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5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，挤出静脉内血液；然后放松该手指，另一手指紧压不动，看静脉是否迅速充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再用同样的方法放松另一手指，根据血流的充盈情况可判断出血流方向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2"/>
          <a:srcRect l="0" t="0" r="7538" b="0"/>
          <a:stretch/>
        </p:blipFill>
        <p:spPr>
          <a:xfrm>
            <a:off x="900000" y="4869000"/>
            <a:ext cx="1511280" cy="11919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D:\z\2006-12-22\照片-诊断 006 副本.jpg"/>
          <p:cNvPicPr/>
          <p:nvPr/>
        </p:nvPicPr>
        <p:blipFill>
          <a:blip r:embed="rId3"/>
          <a:stretch/>
        </p:blipFill>
        <p:spPr>
          <a:xfrm>
            <a:off x="3419640" y="4581360"/>
            <a:ext cx="1873080" cy="15732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"/>
          <p:cNvPicPr/>
          <p:nvPr/>
        </p:nvPicPr>
        <p:blipFill>
          <a:blip r:embed="rId4"/>
          <a:stretch/>
        </p:blipFill>
        <p:spPr>
          <a:xfrm>
            <a:off x="6227640" y="4869000"/>
            <a:ext cx="144144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9500-53DD-4A1D-AFB0-E49DBA049BE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腹部位于横膈与骨盆之间，前面及侧面为腹壁，后面为脊柱及腰肌，内含腹膜腔和腹腔脏器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腹腔脏器很多，互相交错重叠，正常脏器部分与肿块容易混淆，因此，仔细检查和辨认非常重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检查腹部仍用视诊、触诊、叩诊、听诊等基本检查法，但以触诊最为重要，需要反复实践才能掌握。并且还需借助实验室、影像学和内镜等检查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为了避免触诊引起胃肠蠕动增加，使肠鸣音发生变化，腹部检查的顺序为视、听、触、叩，但记录时为了统一格式仍按视、触、叩、听的顺序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A7A8-57E8-4DFB-82F3-DE7F4FD18D9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胃肠蠕动波及肠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一般不易见到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极度消瘦者可见到胃肠蠕动波及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1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2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胃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13DD-DEE0-471F-B3D1-C43ABFE4F3E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肠梗阻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90720" y="2590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在腹壁上可以看到肠蠕动波及肠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6B23-C9D8-4221-8C8E-5EC41E17269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胃肠梗阻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23520" y="22096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梗阻的上部蠕动增强，可出现蠕动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梗阻时上腹部可见到胃蠕动波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自左向右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A5B6-7D54-456A-8F0B-FDC515C4D78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608200" y="304560"/>
            <a:ext cx="6307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Arial"/>
                <a:hlinkClick r:id="rId1" action="ppaction://hlinksldjump"/>
              </a:rPr>
              <a:t>触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一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壁紧张度、压痛、反跳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二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肿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三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肝脏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四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胆囊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五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脾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六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肾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七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膀胱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2" name="Rectangle 22"/>
          <p:cNvSpPr/>
          <p:nvPr/>
        </p:nvSpPr>
        <p:spPr>
          <a:xfrm>
            <a:off x="441468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E953-7A74-433E-9103-D778396CF83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、压痛、反跳痛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肌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压痛、反跳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4D7D-01F5-4120-B0D3-2BD21A94ED7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肌紧张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内有炎症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肌可因反射性痉挛而使腹壁变硬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1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壁紧张度增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2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壁紧张度减弱或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A44C-08F8-47C1-AEAF-4C1A7361F90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增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腹壁紧张分两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①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局限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②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弥漫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5462-F381-4BAB-9C03-28ED3D78E7E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局限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某一脏器的炎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急性阑尾炎           右下腹局限性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胆囊炎              右上腹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9" name="Line 4"/>
          <p:cNvSpPr/>
          <p:nvPr/>
        </p:nvSpPr>
        <p:spPr>
          <a:xfrm>
            <a:off x="3635280" y="3429000"/>
            <a:ext cx="838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0" name="Line 5"/>
          <p:cNvSpPr/>
          <p:nvPr/>
        </p:nvSpPr>
        <p:spPr>
          <a:xfrm>
            <a:off x="3419640" y="450864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1C5D-30B6-48DB-B782-722A6CCC44E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弥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急性弥漫性炎症所致：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板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慢性弥漫性炎症所致：结腹出现揉面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0F9C-50B9-4B67-B36B-931AEC01E45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板状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9280" y="1904760"/>
            <a:ext cx="8147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肌广泛性紧张硬如木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胃穿孔或其他原因引起的急性弥漫性腹膜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F2EB-15BF-4DE8-B313-956A61A2455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的体表标志与分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55640" y="1989000"/>
            <a:ext cx="4267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体表标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分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Text Box 30"/>
          <p:cNvSpPr/>
          <p:nvPr/>
        </p:nvSpPr>
        <p:spPr>
          <a:xfrm>
            <a:off x="684360" y="285264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2484360" y="263700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2484360" y="393372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62728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2627280" y="270828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5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30ED-B1F3-4AAA-83AE-D480574FA41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减弱或消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多见于老年人，经产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慢性消耗性疾病及大量放腹水后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1FC5-3F98-40B7-8CFD-5BBEB5FE061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压痛、反跳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①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压痛：由浅入深按压，发生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②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反跳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③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壁压痛与腹腔脏器病变引起的压痛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二者鉴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④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腔内重要脏器病变所致的压痛位置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12C7-C7BA-46C4-8B31-878B16E8A2C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反跳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触诊发现压痛后，手指在该处稍停片刻，然后将手迅速抬起，在这一瞬间患者感到腹痛加重，并有痛苦表情称之为反跳痛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炎症累及腹膜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C27D-A82B-4BF0-95EE-3B09178991C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二者鉴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将患者有压痛处的腹壁轻轻抓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源于腹壁的压痛，疼痛更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源于腹腔脏器的压痛，疼痛不加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7254-A9DE-45C5-9253-82793D87B6C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腔内脏器病变所致的压痛位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⑴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急性胆囊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⑵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急性胰腺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⑶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消化性溃疡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5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⑷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急性阑尾炎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7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⑸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膀胱及子宫病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9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⑹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腹内脏器肿瘤早期、腹部肠管蛔虫病、胆管蛔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⑺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右肺下叶肺炎、右侧胸膜炎、心梗等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2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1CB4-60F2-4172-AC63-C9AE1168882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急性胆囊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43000" y="2590920"/>
            <a:ext cx="645336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右侧腹直肌外缘与肋弓下缘交界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明显压痛               胆囊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Line 4"/>
          <p:cNvSpPr/>
          <p:nvPr/>
        </p:nvSpPr>
        <p:spPr>
          <a:xfrm>
            <a:off x="3780000" y="3860640"/>
            <a:ext cx="1218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3030-BDA9-428B-87DD-20A706CB661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急性胰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6970680" cy="36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上中腹部及偏左处有压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CA1A-6CAF-4B3F-A65D-C14EB262631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消化性溃疡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2" action="ppaction://hlinksldjump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682632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常在剑突下或稍偏左、右处有压痛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C185-AD0F-4D5D-9262-73B6ACC0C53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急性阑尾炎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2" action="ppaction://hlinksldjump"/>
              </a:rPr>
              <a:t>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早期表现上腹部压痛及疼痛数小时后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限于右下腹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髂前上棘与脐的连线的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/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内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交界处常有压痛       麦氏点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McBurne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6" name="Line 4"/>
          <p:cNvSpPr/>
          <p:nvPr/>
        </p:nvSpPr>
        <p:spPr>
          <a:xfrm>
            <a:off x="3780000" y="486900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A5F8-4E9A-4ED0-B15F-9E100207200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膀胱及子宫病变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752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腹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E1B0-68E9-4F51-A6D9-6F65947622A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zh-CN" sz="4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体表标志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耻骨联合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肋弓下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5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腹上角（胸骨下角）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腹中线（腹白线）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脐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9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髂前上棘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腹直肌外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2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3" action="ppaction://hlinksldjump"/>
              </a:rPr>
              <a:t>腹股沟韧带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4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5" action="ppaction://hlinksldjump"/>
              </a:rPr>
              <a:t>肋脊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WordArt 8"/>
          <p:cNvSpPr txBox="1"/>
          <p:nvPr/>
        </p:nvSpPr>
        <p:spPr>
          <a:xfrm rot="21346200">
            <a:off x="5181480" y="3429000"/>
            <a:ext cx="32004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体表标志示意图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D7E7-8BB6-425F-9008-797A07E6A02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内脏器肿瘤早期、_x000b_    腹部肠管蛔虫病、胆管蛔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644040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虽有腹痛，但无腹部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338F-3C42-4572-A92E-B8E40655487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33336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肺下叶肺炎、右侧胸膜炎、心梗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可引起腹部压痛（放射痛、牵涉痛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F047-34AC-45A3-B825-D3EDCDBD4BA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肿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触诊时应注意肿快的位置、大小、形状、硬度、有无压痛与波动、能否移动、与周围器官和腹壁的关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炎性肿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良性肿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恶性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E50A-0748-4BE7-AE16-D70706DE929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炎性肿块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58000" cy="35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肿块与邻近组织粘连、压痛明显、不易推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66F5-ACD1-4585-A605-32764EE5905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良性肿块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4920" y="2209680"/>
            <a:ext cx="849780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边界清楚、表面光滑、质地不坚、压痛不著、活动度较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35F9-8BE5-4C6E-9058-584FF015D77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恶性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包块巨大，边界模糊，表面不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地坚硬，移动度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466A-BD3D-467B-8540-29F6DD4BD38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正常人深吸气时，可触及肝下缘，右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不超过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厘米。剑突下不超过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厘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⑴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⑵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肝触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E93C-34D4-4F35-A4B6-7E43207A1EB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4305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单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钩指触诊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3" name="Picture 4" descr=""/>
          <p:cNvPicPr/>
          <p:nvPr/>
        </p:nvPicPr>
        <p:blipFill>
          <a:blip r:embed="rId2"/>
          <a:srcRect l="0" t="0" r="0" b="10696"/>
          <a:stretch/>
        </p:blipFill>
        <p:spPr>
          <a:xfrm>
            <a:off x="4859280" y="2852640"/>
            <a:ext cx="331308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B2D1-9D28-438C-AA5A-39452FC3324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触诊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203280" y="1412640"/>
            <a:ext cx="404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大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质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表面光滑度及边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压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肝颈静脉回流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肝区腹膜摩擦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A8E3-E0D3-4ABB-96FA-2811ABD4663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质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979640" y="1773000"/>
            <a:ext cx="6478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软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口唇）正常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韧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鼻尖）急性肝炎、脂肪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硬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前额）肝硬化、肝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9109-346E-4A52-B54C-377A2B161AC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肋弓下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8388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由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肋软骨构成，其下缘为体表腹部的上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用于腹部分区及肝脾的测量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9A2B-C9F7-493B-B1E0-6F789C1B86B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大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深吸气时，可触及肝下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肋下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厘米，剑突下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厘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30E4-23D8-4400-B7D8-1985C8C010A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表面光滑度及边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446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⑴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光滑、边缘规则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: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正常肝、急性肝炎、肝淤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⑵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不光滑，呈较均匀的小结节状，边缘不整且较薄者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: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肝硬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⑶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呈粗大不均匀的结节状，边缘厚薄不一致： 肝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A75C-3B07-4B39-B2EE-2DF39F4AD9D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压痛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无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炎、急性肝淤血、肝脓肿时有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F393-6AE3-4120-B65A-7A500F0DCD0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颈静脉回流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用手按压肿大的肝时，颈静脉充盈较前更明显，停止按压时，颈静脉充盈复原，即为肝颈静脉回流征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是右心衰竭、心包积液或心包缩窄的一个重要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35CA-832C-4429-A167-E7B38799940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区腹膜摩擦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让患者用力做腹式呼吸，此时如触及断续而粗糙的震动，即为肝区腹膜摩擦感。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肝周围炎时产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1843-9FA1-498A-970C-08E4E21D105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胆囊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胆囊不能触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方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9DDF-27AF-433E-B355-74488043AA9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左手掌放于患者的右前胸下部，左拇指置于右肋下缘与腹直肌交界处，并按压腹部，嘱患者缓慢深呼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,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如在吸气过程中，患者因疼痛而突然终止吸气者称为莫菲征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Murphy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）阳性。为胆囊炎症所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2"/>
          <a:srcRect l="0" t="11885" r="8913" b="0"/>
          <a:stretch/>
        </p:blipFill>
        <p:spPr>
          <a:xfrm>
            <a:off x="4788000" y="3959280"/>
            <a:ext cx="3097080" cy="22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30BF-4DB0-45B3-A8D4-6E4DDBC9FDF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囊炎：肿大、囊性感，右上腹肌紧张压痛，莫菲征阳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胰头癌压迫胆总管：胆囊肿大，进行性黄疸，胆囊大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但无压痛            称为胆总管渐进阻塞征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Courvoisier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总管结石：黄疸明显，胆囊常不肿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因慢性炎症， 胆囊纤维化而皱缩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囊结石和胆囊癌时：胆囊肿大，有实体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5" name="Line 4"/>
          <p:cNvSpPr/>
          <p:nvPr/>
        </p:nvSpPr>
        <p:spPr>
          <a:xfrm>
            <a:off x="2124000" y="31417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50B1-6D59-4719-8BC7-6AFF1BA5242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6978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正常脾不能触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脾触诊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脾大的测量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脾大的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脾大及伴随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85F1-8748-42E2-A22E-E403BC58CAD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触诊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通常脾触诊采用单手触诊法及双手触诊法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明显肿大，位置较表浅时，用单手触诊稍用力即可触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轻度肿大，并且位置较深，则需要用双手触诊法进行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被评估者采取仰卧位，双腿稍屈曲，使腹壁松弛，评估者位于右侧，左手置于被评估者左季肋部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7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处的侧后方，将脾脏由后向前托起，右手平放腹部与右肋弓垂直，从髂前上棘连线水平开始随被评估者腹式呼吸自下而上进行触诊，直至触到脾下缘或右肋弓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94" name="Picture 4" descr=""/>
          <p:cNvPicPr/>
          <p:nvPr/>
        </p:nvPicPr>
        <p:blipFill>
          <a:blip r:embed="rId2"/>
          <a:stretch/>
        </p:blipFill>
        <p:spPr>
          <a:xfrm>
            <a:off x="6227640" y="4797360"/>
            <a:ext cx="175284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02:43:28Z</dcterms:created>
  <dc:creator>李晓慧</dc:creator>
  <dc:description/>
  <dc:language>en-US</dc:language>
  <cp:lastModifiedBy>赵欣</cp:lastModifiedBy>
  <dcterms:modified xsi:type="dcterms:W3CDTF">2015-12-16T09:06:23Z</dcterms:modified>
  <cp:revision>98</cp:revision>
  <dc:subject/>
  <dc:title>腹部检查</dc:title>
</cp:coreProperties>
</file>